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Jingle%20Bell%20Rock.wav" ContentType="audio/x-wav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32B-323D-4E4C-84E8-333092B0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242-29AC-4712-8B4F-E1154A11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15C-A310-4974-8074-9E8F597F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C4A-525D-48AE-81E2-8CECD802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28A-24F3-49B1-896F-A42CF9FA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AB2-6E58-4545-A7CB-8A1EDAD0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393-D163-46AB-AE48-7F9E212D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3EE-532F-49C2-9031-5CBD420A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499-0653-41EB-9F00-869E3539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CE1-10C3-447B-ADB6-F608453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727-25E0-4AED-A031-9CB7B26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854-3808-4576-84A7-568AAEC5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24CF-00F5-471D-92C5-C428183A2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Jingle%20Bell%20Rock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89000"/>
            <a:ext cx="7416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5000"/>
                  </a:srgbClr>
                </a:solidFill>
                <a:latin typeface="Times New Roman"/>
              </a:rPr>
              <a:t>JINGLE BELLS R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5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778360"/>
            <a:ext cx="338436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RA, MARÍA, AL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, ALEX Y JOSE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72360" y="3284640"/>
            <a:ext cx="47628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86760" y="404640"/>
            <a:ext cx="64116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flipH="1">
            <a:off x="-360" y="333360"/>
            <a:ext cx="754200" cy="1582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  <p:sndAc>
      <p:stSnd>
        <p:snd r:embed="rId5" name="Jingle%20Bell%20Ro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8229600" cy="2492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ingle bell, jingle bell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ingle bell roc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ingle bell swingAnd jingle bells ring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nowin' and blowin'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p bushels of fun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 the jingle hop has begu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4724280"/>
            <a:ext cx="1050840" cy="927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7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ingle bell, jingle bell  Jingle bell rock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ingle bells chime in   Jingle bell time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ancin' and prancin'In jingle bell square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 the frosty 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32000" y="4508640"/>
            <a:ext cx="1468440" cy="195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4365720"/>
            <a:ext cx="1467000" cy="1955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hat a bright time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t's the right time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 rock the night away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ingle bell, time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s a swell time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 go glidin' in a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ne horse sle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78200" y="30780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303160"/>
            <a:ext cx="6985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What a bright time It's the right time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 rock the night away Jingle bell, time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 a swell time To go glidin' in 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ne horse sle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1156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63160"/>
            <a:ext cx="838836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ff"/>
                </a:solidFill>
                <a:latin typeface="Arial"/>
              </a:rPr>
              <a:t>Giddy-up, jingle horse      Pick up your feet </a:t>
            </a:r>
            <a:br>
              <a:rPr sz="2400"/>
            </a:br>
            <a:r>
              <a:rPr b="1" lang="es-ES" sz="2400" spc="-1" strike="noStrike">
                <a:solidFill>
                  <a:srgbClr val="ff00ff"/>
                </a:solidFill>
                <a:latin typeface="Arial"/>
              </a:rPr>
              <a:t>Jingle around the clock    Mix and mingle </a:t>
            </a:r>
            <a:br>
              <a:rPr sz="2400"/>
            </a:br>
            <a:r>
              <a:rPr b="1" lang="es-ES" sz="2400" spc="-1" strike="noStrike">
                <a:solidFill>
                  <a:srgbClr val="ff00ff"/>
                </a:solidFill>
                <a:latin typeface="Arial"/>
              </a:rPr>
              <a:t>In a jinglin' beat     That's the jingle bell r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34:49Z</dcterms:created>
  <dc:creator>pc10</dc:creator>
  <dc:description/>
  <dc:language>en-US</dc:language>
  <cp:lastModifiedBy>pc10</cp:lastModifiedBy>
  <dcterms:modified xsi:type="dcterms:W3CDTF">2011-12-21T10:05:56Z</dcterms:modified>
  <cp:revision>8</cp:revision>
  <dc:subject/>
  <dc:title>Diapositiva 1</dc:title>
</cp:coreProperties>
</file>